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wmf" ContentType="image/x-wmf"/>
  <Override PartName="/ppt/media/image9.gif" ContentType="image/gif"/>
  <Override PartName="/ppt/media/image17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530-7377-4880-9876-4D5CB55C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2A72-041A-4844-90AC-08176402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B31-629C-4EA9-B584-E52A7CF3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D31-1857-4285-8744-C83B7746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BCD6-C39E-4809-A06C-258460E3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09F3-14F8-406F-B143-4DD5F797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49FE-DA20-4B99-92DB-87A87687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F824-F4FE-4EB5-9131-ADD2C607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1E18-4A7E-4E64-9621-0485DC26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C164-6AA5-48D8-B06A-695E5EEF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52B9-58D2-444D-AF8B-9532BFED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27B-0065-426A-A468-D04DB140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5A64-4097-4342-901B-B0E4E92F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6354-A266-487F-A026-200D71EB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E1E3-6449-40FA-8A77-42DF2C50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7113-8330-4AE8-B92E-F24B1036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94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4840" y="990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94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4840" y="3816720"/>
            <a:ext cx="2576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F575-9368-40EC-A84F-0F9D0318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D7C1-4F94-47A9-A2FE-F00CC3FC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7DF-52EF-459A-B085-D4037164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483-1148-4141-AA53-BD42087C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B9F0-094D-4FE1-A167-6B7308FA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34C-FE3C-4B7C-B962-C9C73779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3720" y="3816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9C3-23E8-4812-A7E5-B15938F2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990720"/>
            <a:ext cx="3904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816720"/>
            <a:ext cx="8001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37B-6D57-4088-AD87-4080F7F8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4FD0-D2E0-4BB3-AD76-21A90D4C8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61722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bc0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64D7-F8E7-4A8D-97AC-C422127FE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3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3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usport.gov.au/" TargetMode="External"/><Relationship Id="rId3" Type="http://schemas.openxmlformats.org/officeDocument/2006/relationships/hyperlink" Target="http://www.ausport.gov.au/" TargetMode="External"/><Relationship Id="rId4" Type="http://schemas.openxmlformats.org/officeDocument/2006/relationships/hyperlink" Target="http://www.find30.com.au/" TargetMode="External"/><Relationship Id="rId5" Type="http://schemas.openxmlformats.org/officeDocument/2006/relationships/hyperlink" Target="http://www.walkingbus.com/" TargetMode="External"/><Relationship Id="rId6" Type="http://schemas.openxmlformats.org/officeDocument/2006/relationships/hyperlink" Target="http://www.walkingbus.com/" TargetMode="External"/><Relationship Id="rId7" Type="http://schemas.openxmlformats.org/officeDocument/2006/relationships/hyperlink" Target="http://www.newhealth.govt.nz/" TargetMode="External"/><Relationship Id="rId8" Type="http://schemas.openxmlformats.org/officeDocument/2006/relationships/hyperlink" Target="http://www.newhealth.govt.nz/" TargetMode="External"/><Relationship Id="rId9" Type="http://schemas.openxmlformats.org/officeDocument/2006/relationships/hyperlink" Target="http://www.10000steps.org.au/rockhampton/" TargetMode="External"/><Relationship Id="rId10" Type="http://schemas.openxmlformats.org/officeDocument/2006/relationships/hyperlink" Target="http://www.travelsmart.gov.au/" TargetMode="External"/><Relationship Id="rId11" Type="http://schemas.openxmlformats.org/officeDocument/2006/relationships/hyperlink" Target="http://www.travelsmart.gov.au/" TargetMode="External"/><Relationship Id="rId12" Type="http://schemas.openxmlformats.org/officeDocument/2006/relationships/hyperlink" Target="http://www.who.int/" TargetMode="External"/><Relationship Id="rId13" Type="http://schemas.openxmlformats.org/officeDocument/2006/relationships/hyperlink" Target="http://www.who.int/" TargetMode="External"/><Relationship Id="rId14" Type="http://schemas.openxmlformats.org/officeDocument/2006/relationships/hyperlink" Target="http://www.heartfoundation.com.au/" TargetMode="External"/><Relationship Id="rId15" Type="http://schemas.openxmlformats.org/officeDocument/2006/relationships/hyperlink" Target="http://www.heartfoundation.com.au/" TargetMode="External"/><Relationship Id="rId16" Type="http://schemas.openxmlformats.org/officeDocument/2006/relationships/hyperlink" Target="http://www.vichealth.vic.gov.au/" TargetMode="External"/><Relationship Id="rId17" Type="http://schemas.openxmlformats.org/officeDocument/2006/relationships/hyperlink" Target="http://www.vichealth.vic.gov.au/" TargetMode="External"/><Relationship Id="rId18" Type="http://schemas.openxmlformats.org/officeDocument/2006/relationships/hyperlink" Target="http://www.beactive.com.au/" TargetMode="External"/><Relationship Id="rId19" Type="http://schemas.openxmlformats.org/officeDocument/2006/relationships/hyperlink" Target="http://www.beactive.com.au/" TargetMode="External"/><Relationship Id="rId20" Type="http://schemas.openxmlformats.org/officeDocument/2006/relationships/hyperlink" Target="http://www.goforyourlife.vic.gov.au/" TargetMode="External"/><Relationship Id="rId21" Type="http://schemas.openxmlformats.org/officeDocument/2006/relationships/hyperlink" Target="http://www.goforyourlife.vic.gov.au/" TargetMode="External"/><Relationship Id="rId22" Type="http://schemas.openxmlformats.org/officeDocument/2006/relationships/hyperlink" Target="http://www.cdc.gov/nccdphp/dnpa/physical/health_professionals/index.htm" TargetMode="External"/><Relationship Id="rId23" Type="http://schemas.openxmlformats.org/officeDocument/2006/relationships/hyperlink" Target="http://www.phac-aspc.gc.ca/hp-ps/index.html" TargetMode="External"/><Relationship Id="rId24" Type="http://schemas.openxmlformats.org/officeDocument/2006/relationships/hyperlink" Target="http://www.nphp.gov.au/workprog/sigpah/" TargetMode="External"/><Relationship Id="rId25" Type="http://schemas.openxmlformats.org/officeDocument/2006/relationships/hyperlink" Target="http://www.nphp.gov.au/workprog/sigpah/" TargetMode="External"/><Relationship Id="rId26" Type="http://schemas.openxmlformats.org/officeDocument/2006/relationships/hyperlink" Target="http://www.nphp.gov.au/workprog/sigpah/" TargetMode="External"/><Relationship Id="rId27" Type="http://schemas.openxmlformats.org/officeDocument/2006/relationships/hyperlink" Target="http://www.cdc.gov/HealthyYouth/" TargetMode="External"/><Relationship Id="rId28" Type="http://schemas.openxmlformats.org/officeDocument/2006/relationships/hyperlink" Target="http://www.cdc.gov/HealthyYouth/" TargetMode="External"/><Relationship Id="rId29" Type="http://schemas.openxmlformats.org/officeDocument/2006/relationships/hyperlink" Target="http://www.cdc.gov/HealthyYouth/" TargetMode="External"/><Relationship Id="rId30" Type="http://schemas.openxmlformats.org/officeDocument/2006/relationships/hyperlink" Target="http://www.americaonthemove.org/" TargetMode="External"/><Relationship Id="rId31" Type="http://schemas.openxmlformats.org/officeDocument/2006/relationships/hyperlink" Target="http://www.americaonthemove.org/" TargetMode="External"/><Relationship Id="rId32" Type="http://schemas.openxmlformats.org/officeDocument/2006/relationships/hyperlink" Target="http://www.ijbnpa.org/home" TargetMode="External"/><Relationship Id="rId33" Type="http://schemas.openxmlformats.org/officeDocument/2006/relationships/hyperlink" Target="http://www.ijbnpa.org/home" TargetMode="External"/><Relationship Id="rId34" Type="http://schemas.openxmlformats.org/officeDocument/2006/relationships/hyperlink" Target="http://www.ijbnpa.org/home" TargetMode="External"/><Relationship Id="rId35" Type="http://schemas.openxmlformats.org/officeDocument/2006/relationships/hyperlink" Target="http://www.health.gov.au/internet/wcms/publishing.nsf/content/home" TargetMode="External"/><Relationship Id="rId36" Type="http://schemas.openxmlformats.org/officeDocument/2006/relationships/hyperlink" Target="http://www.healthyactive.gov.au/" TargetMode="External"/><Relationship Id="rId37" Type="http://schemas.openxmlformats.org/officeDocument/2006/relationships/hyperlink" Target="http://www.healthyactive.gov.au/" TargetMode="External"/><Relationship Id="rId38" Type="http://schemas.openxmlformats.org/officeDocument/2006/relationships/hyperlink" Target="http://www.nphp.gov.au/" TargetMode="External"/><Relationship Id="rId39" Type="http://schemas.openxmlformats.org/officeDocument/2006/relationships/hyperlink" Target="http://www.nphp.gov.au/" TargetMode="External"/><Relationship Id="rId40" Type="http://schemas.openxmlformats.org/officeDocument/2006/relationships/hyperlink" Target="http://www.beactive.com.au/" TargetMode="External"/><Relationship Id="rId41" Type="http://schemas.openxmlformats.org/officeDocument/2006/relationships/hyperlink" Target="http://www.beactive.com.au/" TargetMode="External"/><Relationship Id="rId42" Type="http://schemas.openxmlformats.org/officeDocument/2006/relationships/hyperlink" Target="http://www.sport.vic.gov.au/" TargetMode="External"/><Relationship Id="rId43" Type="http://schemas.openxmlformats.org/officeDocument/2006/relationships/hyperlink" Target="http://www.sport.vic.gov.au/" TargetMode="External"/><Relationship Id="rId44" Type="http://schemas.openxmlformats.org/officeDocument/2006/relationships/image" Target="../media/image3.png"/><Relationship Id="rId45" Type="http://schemas.openxmlformats.org/officeDocument/2006/relationships/hyperlink" Target="http://www.ais.org.au/psychology/research.asp" TargetMode="External"/><Relationship Id="rId46" Type="http://schemas.openxmlformats.org/officeDocument/2006/relationships/hyperlink" Target="http://www.ais.org.au/psychology/research.asp" TargetMode="External"/><Relationship Id="rId47" Type="http://schemas.openxmlformats.org/officeDocument/2006/relationships/hyperlink" Target="http://www.athleticinsight.com/" TargetMode="External"/><Relationship Id="rId48" Type="http://schemas.openxmlformats.org/officeDocument/2006/relationships/hyperlink" Target="http://www.athleticinsight.com/" TargetMode="External"/><Relationship Id="rId4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Chapter 13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905600" cy="15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716280" cy="4782960"/>
          </a:xfrm>
          <a:prstGeom prst="rect">
            <a:avLst/>
          </a:prstGeom>
          <a:ln w="9360">
            <a:solidFill>
              <a:srgbClr val="ff99cc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68360" y="2060640"/>
            <a:ext cx="3097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lson Physical Education VCE Units 3&amp;4: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Malpeli, Horton, Davey and Telfo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ve It Up 2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Smyth, Brown, Judge, McCallum and Pritchard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56400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635280" y="4365720"/>
            <a:ext cx="143352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Arousal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052280"/>
            <a:ext cx="380988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usal is the amount of readiness or activation a person experiences when faced with a tas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hletes need an optimal level of arousal to experience succ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rate level is ideal z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. Arousal levels and performance outcomes vary in athle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8320" y="1197000"/>
            <a:ext cx="4343400" cy="47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3213000"/>
            <a:ext cx="7405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Impact"/>
              </a:rPr>
              <a:t>Arousal Regulation</a:t>
            </a:r>
            <a:endParaRPr b="0" lang="en-US" sz="44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31960" y="4581000"/>
            <a:ext cx="80611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Arousal Regulation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us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d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que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ive muscle relaxation (PM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th control – Used to relax and refoc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feedback – Sensors detect raised tension or stress in the bo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ss-inoculation training (SIT) – Building immunity to stress via train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c09"/>
                </a:solidFill>
                <a:latin typeface="Arial"/>
              </a:rPr>
              <a:t>Coursework 13.1 Case Study p.3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1640" y="1268280"/>
            <a:ext cx="380988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us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mo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vated breathing rate – Increases state of awareness in C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 energe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talk and sounds: ‘Talk it Up!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sing imager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competition work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bc09"/>
                </a:solidFill>
                <a:latin typeface="Arial"/>
              </a:rPr>
              <a:t>Coursework 13.2 Structured Questions p.31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924680" y="5410080"/>
            <a:ext cx="976320" cy="1101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153280" y="914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3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Mental Imagery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380988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al Imag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r visualisation, is used by athletes when they imagine themselves performing skill before actually doing th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form of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sory experience which occurs in the mind via thou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ngthens neural pathw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s can be kinaesthetic, auditory and tacti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1640" y="1341000"/>
            <a:ext cx="38098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ental rehearsal needs to be done in a relaxed state for 5-10 minutes at a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mulation training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is considered more effective than mental imagery in that it replicates the game situ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isuo-motor behaviour rehearsal (VMBR)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– Requires a relaxed state to perform mental imagery and then conducting the skill under simulated condi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bbc09"/>
                </a:solidFill>
                <a:latin typeface="Arial"/>
              </a:rPr>
              <a:t>Coursework 13.3 Laboratory p.32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153280" y="914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3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167680" y="5486400"/>
            <a:ext cx="976320" cy="1101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Concentration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ntration contains three part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ing on relevant environmental c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ing attention focus over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ing awareness of the sit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. Concentration and attention are used interchangeably in sports psycholog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1640" y="1197000"/>
            <a:ext cx="3809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ntion can be described in terms of width and dire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-internal – Focus on thoughts and feel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-external – Focus outwards on an opponents 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ow-internal – Mentally rehearse mov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rrow-external – Focus on very few external c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Concentration (2)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s leading to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attentio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on past exper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’t ‘let things go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orientated thin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f’ 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ing on negative aspects of their g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ntration c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prov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ia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cue 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ing set rout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-learning ski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1640" y="1268280"/>
            <a:ext cx="380988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king can also cause concentration to fal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rs when pressure is built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t is riding on the next phase of p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s attention to narrow and become inter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impair timing and coord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e figure 13.7 p.3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609840" cy="5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3213000"/>
            <a:ext cx="8126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Impact"/>
              </a:rPr>
              <a:t>Psychological Skills Training</a:t>
            </a:r>
            <a:endParaRPr b="0" lang="en-US" sz="44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1960" y="4581000"/>
            <a:ext cx="78436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Confidence Building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fid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belief individuals possess in becoming successfu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confident athlete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lieve in themselves and their ski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hibit positive emo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ain calm under pres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towards their go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likely to take risks during g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ee fig 13.8 p.325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1640" y="1197000"/>
            <a:ext cx="3809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ing confi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ieving success at training and during compet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ing more positiv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positive imag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ility to follow and understand game p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153280" y="914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3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3213000"/>
            <a:ext cx="7405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Impact"/>
              </a:rPr>
              <a:t>Confidence Building</a:t>
            </a:r>
            <a:endParaRPr b="0" lang="en-US" sz="44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31960" y="4581000"/>
            <a:ext cx="80611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Web Links – Chapter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167" name="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0" y="1562040"/>
                <a:ext cx="9144000" cy="3926880"/>
                <a:chOff x="0" y="1562040"/>
                <a:chExt cx="9144000" cy="39268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0" y="1562040"/>
                  <a:ext cx="9144000" cy="392688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3"/>
                    </a:rPr>
                    <a:t>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5"/>
                    </a:rPr>
                    <a:t>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7"/>
                    </a:rPr>
                    <a:t>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19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1"/>
                    </a:rPr>
                    <a:t>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– Introduction (Centre for disease control and prevention – USA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2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3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4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5"/>
                    </a:rPr>
                    <a:t>www.nphp.gov.au/workprog/sigpah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6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7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8"/>
                    </a:rPr>
                    <a:t>www.cdc.gov/HealthyYouth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29"/>
                    </a:rPr>
                    <a:t>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1"/>
                    </a:rPr>
                    <a:t>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3"/>
                    </a:rPr>
                    <a:t>www.ijbnpa.org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4"/>
                    </a:rPr>
                    <a:t>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5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6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7"/>
                    </a:rPr>
                    <a:t>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8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39"/>
                    </a:rPr>
                    <a:t>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40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41"/>
                    </a:rPr>
                    <a:t>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42"/>
                    </a:rPr>
                    <a:t>http://</a:t>
                  </a:r>
                  <a:r>
                    <a:rPr b="0" lang="en-AU" sz="900" spc="-1" strike="noStrike" u="sng">
                      <a:solidFill>
                        <a:srgbClr val="0033cc"/>
                      </a:solidFill>
                      <a:uFillTx/>
                      <a:latin typeface="Verdana"/>
                      <a:ea typeface="Times New Roman"/>
                      <a:hlinkClick r:id="rId43"/>
                    </a:rPr>
                    <a:t>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1295280"/>
            <a:ext cx="9144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Institute of Sport – Performance psychology research: </a:t>
            </a:r>
            <a:r>
              <a:rPr b="0" lang="en-AU" sz="18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5"/>
              </a:rPr>
              <a:t>http://</a:t>
            </a:r>
            <a:r>
              <a:rPr b="0" lang="en-AU" sz="18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6"/>
              </a:rPr>
              <a:t>www.ais.org.au/psychology/research.as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thletic Insight – online journal of sport psychology: </a:t>
            </a:r>
            <a:r>
              <a:rPr b="0" lang="en-AU" sz="18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7"/>
              </a:rPr>
              <a:t>http://</a:t>
            </a:r>
            <a:r>
              <a:rPr b="0" lang="en-AU" sz="18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8"/>
              </a:rPr>
              <a:t>www.athleticinsight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Psychological Society (information about sport psychologists): http://www.psychology.org.au/psych/special_areas/2.4_9.as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Psych web – Sport psychology: http://www.psywww.com/sports/index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port psychology resrouces (Psychwatch.com): http://www.psychwatch.com/sport_psychology.ht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ports science library (Gatorade Sports Science Institute): http://www.gssiweb.com/sportssciencecenter/topic.cfm?id=6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Peak performance sports – mental resources: http://www.peaksports.com/tips_resources.ph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ticle – In the zone: Training your mind as well as your body (CNN): http://www.cnn.com/HEALTH/library/SM/00001.htm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60958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15417" y="3837"/>
                </a:moveTo>
                <a:lnTo>
                  <a:pt x="17993" y="6448"/>
                </a:ln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lnTo>
                  <a:pt x="22380" y="10800"/>
                </a:lnTo>
                <a:lnTo>
                  <a:pt x="20726" y="10800"/>
                </a:lnTo>
                <a:lnTo>
                  <a:pt x="20726" y="17989"/>
                </a:lnTo>
                <a:lnTo>
                  <a:pt x="10108" y="17989"/>
                </a:lnTo>
                <a:lnTo>
                  <a:pt x="10108" y="10800"/>
                </a:lnTo>
                <a:lnTo>
                  <a:pt x="8454" y="10800"/>
                </a:lnTo>
                <a:close/>
              </a:path>
              <a:path fill="darkenLess" w="30834" h="21600">
                <a:moveTo>
                  <a:pt x="17993" y="6448"/>
                </a:move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close/>
              </a:path>
              <a:path fill="darkenLess" w="30834" h="21600">
                <a:moveTo>
                  <a:pt x="14495" y="14299"/>
                </a:moveTo>
                <a:lnTo>
                  <a:pt x="16340" y="14299"/>
                </a:lnTo>
                <a:lnTo>
                  <a:pt x="16340" y="17989"/>
                </a:lnTo>
                <a:lnTo>
                  <a:pt x="20726" y="17989"/>
                </a:lnTo>
                <a:lnTo>
                  <a:pt x="20726" y="10800"/>
                </a:lnTo>
                <a:lnTo>
                  <a:pt x="10108" y="10800"/>
                </a:lnTo>
                <a:lnTo>
                  <a:pt x="10108" y="17989"/>
                </a:lnTo>
                <a:lnTo>
                  <a:pt x="14495" y="17989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28600" y="380880"/>
          <a:ext cx="876312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80880"/>
                    <a:ext cx="8763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9250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Psychological Skills Training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38098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es on cognitive behavioural aspects of sports psycholog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ychological skills, like physical skills, can be learnt via training (PST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T can dramatically improve perform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T programs are individuali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ques include; Goal setting, arousal, mental rehearsal, confidence and concen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1640" y="1197000"/>
            <a:ext cx="38098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T has three main stage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 – What techniques are currently used and being told about other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quisition – Taught how to use the techni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– Use of the technique in training and competi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724360" y="4653000"/>
            <a:ext cx="2116440" cy="174924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3213000"/>
            <a:ext cx="74772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Impact"/>
              </a:rPr>
              <a:t>Goal Setting</a:t>
            </a:r>
            <a:endParaRPr b="0" lang="en-US" sz="44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16000" y="4581000"/>
            <a:ext cx="784368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Goal Setting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 setting is where athletes set down clear targets, priorities and expect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  setting has been shown to increase work out put up to 40-50%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s need to be set up for both training and competi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term goals aim at the broader target, whereas short term goals provide more manageable focus poi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ee Fig 13.2 p.3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268280"/>
            <a:ext cx="380988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goal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 go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Focus on end results, times, finishing places or meda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go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Focus on comparing present performance levels with those obtained previously. Independent to other competito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go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Focus on physical movements and game strateg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bc09"/>
                </a:solidFill>
                <a:latin typeface="Arial"/>
              </a:rPr>
              <a:t>Goal Setting - SMARTER</a:t>
            </a:r>
            <a:endParaRPr b="0" lang="en-US" sz="40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052280"/>
            <a:ext cx="38098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ational Coaching Association has set down the following ‘SMARTER’ way of setting goal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– Clear goals to focu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urable – Need to be assessed against previous perform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epted – Acceptance by the all parties invol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listic – Goals need to be within the athlete’s capac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e Phased – Specific date for completion needs to be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citing – Challenged, inspired and rewarding go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rded – Goals should be written down and kep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setting improves performance b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ing attention on important elements of the skill/s being perform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ating and organising an athlete’s eff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uraging athlete perseve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ing the development of new learning strateg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ining movements and set pl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ibuting towards a positive psychological s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153280" y="914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3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153280" y="152280"/>
            <a:ext cx="762120" cy="7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CE Physical Education - Uni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3213000"/>
            <a:ext cx="74055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Impact"/>
              </a:rPr>
              <a:t>Arousal</a:t>
            </a:r>
            <a:endParaRPr b="0" lang="en-US" sz="4400" spc="-1" strike="noStrike">
              <a:solidFill>
                <a:srgbClr val="fbbc09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31960" y="4581000"/>
            <a:ext cx="806112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enhancement from a psychological persp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5:59:28Z</dcterms:created>
  <dc:creator>DE&amp;T User</dc:creator>
  <dc:description/>
  <dc:language>en-US</dc:language>
  <cp:lastModifiedBy>DE&amp;T User</cp:lastModifiedBy>
  <dcterms:modified xsi:type="dcterms:W3CDTF">2006-11-21T02:41:41Z</dcterms:modified>
  <cp:revision>117</cp:revision>
  <dc:subject/>
  <dc:title>Unit 4</dc:title>
</cp:coreProperties>
</file>